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84142"/>
        <c:axId val="50292336"/>
      </c:barChart>
      <c:catAx>
        <c:axId val="358841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92336"/>
        <c:crosses val="autoZero"/>
        <c:auto val="1"/>
        <c:lblAlgn val="ctr"/>
        <c:lblOffset val="100"/>
        <c:noMultiLvlLbl val="0"/>
      </c:catAx>
      <c:valAx>
        <c:axId val="502923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841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DC56-1933-4556-8884-8C319D84F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3AF-E8C8-4F88-AFA3-54EF728B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74B7-2188-42EF-BAEB-F5802E42F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5068-DA5E-4A43-B74B-6B7FF0DC0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054B-C407-4355-B44F-EAB2230CE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E1B-90FC-4F94-B0FC-607B56C1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C50-E4EA-4AEA-B00D-7F8CF437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4785-89F6-4099-8BBF-473041E8D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03B1-8817-437A-9BBB-58D6543D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3D80-215E-4643-8A0D-33EE1BAE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944-8A58-4A0B-83DB-D6435065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80C4-89F0-417E-AEAE-B0838435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13D32-9FA6-4EE1-98BB-C461B4A977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