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585494"/>
        <c:axId val="53661475"/>
      </c:barChart>
      <c:catAx>
        <c:axId val="37585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61475"/>
        <c:crosses val="autoZero"/>
        <c:auto val="1"/>
        <c:lblAlgn val="ctr"/>
        <c:lblOffset val="100"/>
        <c:noMultiLvlLbl val="0"/>
      </c:catAx>
      <c:valAx>
        <c:axId val="53661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85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C5F-CBB9-4AC6-A5F1-5AE74C3B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E65-2DAA-4E22-A5EB-DC5FCBE7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BEB-343B-4D98-AD61-7609859A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FD7-978C-48FC-B42E-F6EC52DB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B06-8043-4639-A62E-9B39C235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067-A01E-4292-8C22-B50EA9E3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506-9EF7-471C-9DE1-4B468074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0D0-9D0D-4442-8067-D5212051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796-3ADF-478C-9035-6DC1B11A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C7C-02E2-4F8F-A3F7-E2CC08D4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C4F-EB71-47B2-9CC5-D4C68C37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E336-3FBD-476B-ADED-61FB8DB4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827C6-A4DD-4D76-B465-DE71A8E32B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