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19879"/>
        <c:axId val="46374475"/>
      </c:barChart>
      <c:catAx>
        <c:axId val="27419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74475"/>
        <c:crosses val="autoZero"/>
        <c:auto val="1"/>
        <c:lblAlgn val="ctr"/>
        <c:lblOffset val="100"/>
        <c:noMultiLvlLbl val="0"/>
      </c:catAx>
      <c:valAx>
        <c:axId val="46374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19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B0A-CE3B-4247-A605-0742E95E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113-59CC-4C82-86E1-58AF260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590-01A0-4F62-A4CD-FCCD8018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303-1411-4909-BA53-9901DFE5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F01-AEE5-482C-82CA-3C6C34A5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961-44A2-4B97-B4D5-A97B9A3D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941-F9E1-41E8-A509-4203B1B9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9CB-3A88-4D6E-BAC9-8FD18790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6DE-650B-420A-B5C9-D2EF0771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E36-9233-490F-A0A7-3B43E31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A1C-75A3-4E0A-899D-50C06102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892-8C0A-450B-B390-F6FC9AF4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809AF-FE0B-4061-83D8-0379F06943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