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79362"/>
        <c:axId val="84798379"/>
      </c:barChart>
      <c:catAx>
        <c:axId val="74479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98379"/>
        <c:crosses val="autoZero"/>
        <c:auto val="1"/>
        <c:lblAlgn val="ctr"/>
        <c:lblOffset val="100"/>
        <c:noMultiLvlLbl val="0"/>
      </c:catAx>
      <c:valAx>
        <c:axId val="84798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79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8C9-16D3-4B5A-A0DB-4A7BE690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51A-D565-40D6-9918-0E1CA864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D2C-C3BE-4909-A40F-4759C6D6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DC1-B408-4B2C-B372-62725C4B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E0A-3945-4DA2-BA55-E556C82B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C98-16F0-4C89-95A0-E2BECED9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2D2-54BD-47B1-8DAD-433A662A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C8B-2E2C-4CAD-BFC9-71F1ABEB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D9D-D54D-446B-B1E3-9FB791CC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9C2-ADB7-4EEA-92E9-502E65A6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644-5FE4-40EC-9BD3-7155EEBB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70D-53BC-442C-A6A6-CFDC9145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7D22D-3287-423A-845E-295AEEABB8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