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63343"/>
        <c:axId val="35202779"/>
      </c:barChart>
      <c:catAx>
        <c:axId val="468633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02779"/>
        <c:crosses val="autoZero"/>
        <c:auto val="1"/>
        <c:lblAlgn val="ctr"/>
        <c:lblOffset val="100"/>
        <c:noMultiLvlLbl val="0"/>
      </c:catAx>
      <c:valAx>
        <c:axId val="352027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633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9D1A-7AD0-4C47-A69D-7E0CFE41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C70F-AD9C-40BD-BFF3-E59F3462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958F-D278-4FA3-98C9-7705B3F2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3EA-E320-48D1-9889-D3F21D0A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1B6C-D7F5-4DB0-90DE-FE33BC96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595-9D85-4078-8B86-63D732AD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2FDE-EE6D-4993-A7A4-F9F1C599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42E-6BB7-4E42-B46E-69E707B5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9B04-0DDF-425E-8FA0-B15B7622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EDF8-42E8-4A99-9D98-6C18E99F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9D04-CEFB-446D-A91C-3B5A3A86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3005-CB1F-4064-BD28-657BF76B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16FAA-3002-40A6-A579-91C0C31DAA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