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99244"/>
        <c:axId val="70088942"/>
      </c:barChart>
      <c:catAx>
        <c:axId val="72699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88942"/>
        <c:crosses val="autoZero"/>
        <c:auto val="1"/>
        <c:lblAlgn val="ctr"/>
        <c:lblOffset val="100"/>
        <c:noMultiLvlLbl val="0"/>
      </c:catAx>
      <c:valAx>
        <c:axId val="70088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99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359-C116-44F1-AC06-0832A12D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0D4-06E2-479B-B373-24258776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505-5A45-47F7-9B51-6F77C7C8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F1A-9F72-4CB2-809A-98170A31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515-9CDA-4B48-ACFA-B1A4D8A6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E01-B347-48F0-835C-2020EA64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905-405F-498C-AD79-3605E6FD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2AB-002F-4C70-BF10-FE2E2919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FAD-B2FF-439C-983F-8CC75B62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D69-3B51-46FC-9551-0C556CA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69D-979B-4B87-A2D5-BC38585E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B13-35D3-46CF-A54B-9970609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501BF-B694-4380-B2F8-B4C6F56E2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