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88395"/>
        <c:axId val="80926517"/>
      </c:barChart>
      <c:catAx>
        <c:axId val="439883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26517"/>
        <c:crosses val="autoZero"/>
        <c:auto val="1"/>
        <c:lblAlgn val="ctr"/>
        <c:lblOffset val="100"/>
        <c:noMultiLvlLbl val="0"/>
      </c:catAx>
      <c:valAx>
        <c:axId val="809265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883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8404-D2D5-4EED-B2EA-1BE93408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A7A2-51C3-48DF-98A0-E365BBCA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A379-1229-4427-91FA-64FA02EED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303D-B883-407C-AFD6-6BC2D8DF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C198-6BDA-4458-A628-5A14987E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7C70-E83D-48F6-A3E7-FDCC097B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709C-C390-4F26-A97F-A02A73A7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DB02-F7B3-43AB-901B-F8B8C5E9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1EF8-0794-47C3-8C3C-38CB0FE5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6ABD-AEC3-40C7-94D8-B43CB89B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FE92-F87C-4A8A-B10E-F81295AC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2DEA-A3E7-408C-A592-14A38205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A5FF8-A8D1-46AD-A7B2-9E928785CC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