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55083"/>
        <c:axId val="39475813"/>
      </c:barChart>
      <c:catAx>
        <c:axId val="74455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75813"/>
        <c:crosses val="autoZero"/>
        <c:auto val="1"/>
        <c:lblAlgn val="ctr"/>
        <c:lblOffset val="100"/>
        <c:noMultiLvlLbl val="0"/>
      </c:catAx>
      <c:valAx>
        <c:axId val="39475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55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DD2-1134-4841-B8F2-65F5E667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726-3061-441E-A07E-8C1B74DA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DDB-B699-4C29-980C-0A79554E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28E-E789-45B5-9868-71C4473C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9C1-9237-4BD4-B77F-7E1B0A9A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AA5-0E3B-4596-83D7-EAE2E71A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B18-DA87-4BEC-92DC-7C98CEAC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3CF-5B1C-4951-A620-D6B9BC8A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4DE-B2FB-4C4F-B162-92E3788A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44F-0126-450F-A6FD-BECFA58B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87B-9F6C-41C9-90EB-E7D251B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765-79E7-49FB-A136-506F6C0F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27251-A1B7-4A9C-ABDD-030968E1C9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